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1CC3-6BB2-430D-ACFD-FB77046BC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ade Science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E) Connect science concepts with the history of science and scien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437-12BC-43A9-98A7-4C08959D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10A-ECC4-4CD4-91E6-DF23D7C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248-16B7-440F-8491-4D60DAB3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0CF-A7B5-4072-BA62-4ED54581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A6C-DA79-409A-AA7C-EC20AF6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43C-F61C-4AAF-B29C-1A73A93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E84-EE55-4B44-8E39-E26BC848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3A6-AF6C-4521-8BA3-4D2925D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711-2EF6-4349-AF74-7AE33247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109-7301-47AA-AA0A-EEF17ED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6DA-AA29-41AA-B67C-56A0F11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A3C-EF47-4C18-AD8F-23AE5E9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E2B4-A1EA-4386-9F76-D34DFBAF0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Scienc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a population becomes resistant to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y Europeans and Native Americans responded differently to disease outbreaks in the New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4120" y="2170080"/>
            <a:ext cx="3343320" cy="251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400" y="1581120"/>
            <a:ext cx="82296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urope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rs and settl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the America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rought m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with the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smallpo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 pox, meas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f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these disea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o travel with the sett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Europeans had built up some resistance to these diseases over time, Native Americans had almost no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you think Europeans had built up resistance to these dis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anto Domingo, for example, the native population shrank from one million people to 500 people in less than 50 years because of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were Europe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s so dead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nat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67160" y="3471840"/>
            <a:ext cx="4532400" cy="2549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 and other diseases killed great numbers of Aztecs and Incas, which helped the Spanish Conquistadors win many battles agains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34080" y="1728720"/>
            <a:ext cx="3809880" cy="219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97960" y="157428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se epidemics, so ma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ere sick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at th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not care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ther. 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m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urvived di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starvation becau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no on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 or care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10120" y="2284560"/>
            <a:ext cx="3571920" cy="2590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022360" y="493884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ww.worldtre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320" y="1889280"/>
            <a:ext cx="81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, there have been fears that terrorists might use biological weapons and deliberately spread dangerous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seases might terrorists try to spr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6720" y="1468440"/>
            <a:ext cx="77184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 U.S. Government is taking steps to prevent an outbreak of disease if terrorists should try to use biological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is one biological weapon that has been used.  It can be sent through the mail and, if untreated, can be dea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perts have also suggested that smallpox could be used as a weapon by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?  How much of a threat is biological warfa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3:50:17Z</dcterms:created>
  <dc:creator>Vince Hardy</dc:creator>
  <dc:description/>
  <dc:language>en-US</dc:language>
  <cp:lastModifiedBy>Texas A&amp;M Veterinary Medicine</cp:lastModifiedBy>
  <dcterms:modified xsi:type="dcterms:W3CDTF">2007-10-02T21:02:44Z</dcterms:modified>
  <cp:revision>10</cp:revision>
  <dc:subject/>
  <dc:title>Slide 1</dc:title>
</cp:coreProperties>
</file>